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4EE0-3B35-4495-AC27-A54E9AB7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7093-B6E6-4D78-AB14-E27839D5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D1C-335D-4FE2-98E0-12285849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97D-771B-404F-9B4A-5567DDB1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595-93A5-46F7-9C01-12C70343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E92-0597-4DFC-8E1B-D6DBB556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F9C-253F-41B0-96A0-2C29B3C9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662-7500-4BE5-87E3-D96BE8E1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ED2-4FF4-44E8-8BCC-1270272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6FE-FC4E-49E6-9658-6D14315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5F6-421E-43DB-9B44-311EB67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B7B-E829-4A61-8073-7E7994C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8FA-0847-4FBE-88DB-04C6C4D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AB3-9308-48DA-BD6A-8488248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FE4-0D44-4A3A-8A58-B3727330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litica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te legisl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had substantial success with pea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had substantial success with peac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8_15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06:47Z</dcterms:modified>
  <cp:revision>89</cp:revision>
  <dc:subject/>
  <dc:title>CRS Chapter 4</dc:title>
</cp:coreProperties>
</file>